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6828952"/>
        <c:axId val="4460827"/>
      </c:barChart>
      <c:catAx>
        <c:axId val="8682895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60827"/>
        <c:crosses val="autoZero"/>
        <c:auto val="1"/>
        <c:lblAlgn val="ctr"/>
        <c:lblOffset val="100"/>
        <c:noMultiLvlLbl val="0"/>
      </c:catAx>
      <c:valAx>
        <c:axId val="446082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82895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6DC6-2CF4-44C1-8101-356F58824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30F4-8AAF-48C0-85B7-E65991391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42B2-F9AE-49A0-AC82-D4F98039C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6EA2-F8EE-47B7-8699-6A7232CF7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02A0-0930-4379-B1E1-3D9690F3E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0D70-9FC8-4DCD-AE78-C194C9651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CB2A-69EA-493B-8BAB-E18F409E4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1D19-B29A-4E27-A646-41651C424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0F0D-0DAF-476D-8798-8810BA277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C428-ED96-489D-BDCF-598EF62F4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AE44-1563-4393-80B9-107F76A8D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D9B9-5630-4072-A50B-000A041CF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D5CC9B-F3E5-420F-AC32-6B7E506A444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