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16295"/>
        <c:axId val="26672132"/>
      </c:barChart>
      <c:catAx>
        <c:axId val="93416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72132"/>
        <c:crosses val="autoZero"/>
        <c:auto val="1"/>
        <c:lblAlgn val="ctr"/>
        <c:lblOffset val="100"/>
        <c:noMultiLvlLbl val="0"/>
      </c:catAx>
      <c:valAx>
        <c:axId val="26672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16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FD5-1CF8-476B-AB58-7A792434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C92-E95B-4AC9-8905-C0C33661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51E-0CC5-48B8-AFD1-4114290D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D65-B6F0-4500-A208-E951AF7D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0C8-717A-4795-82BD-FE2C57AB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B72-96FF-4D0E-8A6A-5647C49E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63F-6E6B-47FD-9780-4A30011A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14B-7130-4FD5-9B13-CEA2FFC7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ADF-3F59-4C99-8D5B-FAE45E84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3BF-5143-4BCB-9A9E-27243E3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94C-5F19-4323-B2CD-DAD0B95E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045-51F4-4B55-9292-5B4EFE5E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EA6E2-1E78-46D7-A2F1-496289885D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