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69578"/>
        <c:axId val="52949899"/>
      </c:barChart>
      <c:catAx>
        <c:axId val="74269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49899"/>
        <c:crosses val="autoZero"/>
        <c:auto val="1"/>
        <c:lblAlgn val="ctr"/>
        <c:lblOffset val="100"/>
        <c:noMultiLvlLbl val="0"/>
      </c:catAx>
      <c:valAx>
        <c:axId val="52949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69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704-E101-407D-AA40-E8921E84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ABC-B013-4BF5-AF26-D6288036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05C-70D4-47D4-B1B5-3B0A0B01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E62-F02C-40B1-8136-9A7A0C96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3C4-DB2A-423C-91B1-330F07AA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0C6-AE6F-4760-BE72-1C62D7A8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1F9-CEDB-406C-ADD9-497E85A0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31E-65C4-4458-9F91-B879564B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7A1-01F5-413D-908F-DCBED5FD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C6B-F048-4BF6-ADA6-CF09EC14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68C-0B52-4535-808A-6201B36A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BFC-9436-42BA-AC2A-2DC88062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25FAA-CB58-4B74-B394-0B5DB3DEA5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