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65658"/>
        <c:axId val="46238876"/>
      </c:barChart>
      <c:catAx>
        <c:axId val="47765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8876"/>
        <c:crosses val="autoZero"/>
        <c:auto val="1"/>
        <c:lblAlgn val="ctr"/>
        <c:lblOffset val="100"/>
        <c:noMultiLvlLbl val="0"/>
      </c:catAx>
      <c:valAx>
        <c:axId val="46238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65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D4A-69CB-45FB-8B7C-0003F8F8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32D-F45D-4F32-8BCF-C40E5D5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D3F-E81F-4709-B2AF-05C635C4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D4B-7C03-43FF-BAF5-C7E2C001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57E-9981-4C9C-9713-65B32619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472-3AF9-472C-AC84-933F159A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ED2-33D3-4D1B-A660-10301F1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A9B-BFC7-4BA5-8C38-43D02CE4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FBE-8DA1-406A-8B82-4648EBF7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FB0-C447-46D1-A2C6-6D57444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CB-5104-40A0-85E9-5692997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145-5410-44A0-B48D-5946089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D8D63-C9F2-4113-93E2-455C2F63ED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