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39757"/>
        <c:axId val="14121520"/>
      </c:barChart>
      <c:catAx>
        <c:axId val="31039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21520"/>
        <c:crosses val="autoZero"/>
        <c:auto val="1"/>
        <c:lblAlgn val="ctr"/>
        <c:lblOffset val="100"/>
        <c:noMultiLvlLbl val="0"/>
      </c:catAx>
      <c:valAx>
        <c:axId val="14121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39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937-7813-4CAC-BBE8-DCCD1727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DDA-81E5-4F80-9891-3F2CED74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6FC-879F-47DD-A1A3-16801BDB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543-B8A8-457D-9454-F8CB1EF3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AA1-CB8B-43F4-8C6C-A2959D3A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F99-A2FD-4723-9EA2-5AAB8E1E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4A4-753A-418B-A0B7-D1A24B77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C9A-575C-420F-A71D-B5081FF2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5B4-CCAB-446A-AD20-4BDE3C07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C15-5234-4EEA-847A-959A1128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2C0-7654-4087-9A89-CECB9F1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98D-D18F-425F-8CE2-1602FE6E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9BA98-96DE-453C-9A53-7CBF4C7E7A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